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7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1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32.xml.rels" ContentType="application/vnd.openxmlformats-package.relationships+xml"/>
  <Override PartName="/ppt/slides/_rels/slide218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149.xml.rels" ContentType="application/vnd.openxmlformats-package.relationships+xml"/>
  <Override PartName="/ppt/slides/_rels/slide53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2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211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20.xml" ContentType="application/vnd.openxmlformats-officedocument.presentationml.slide+xml"/>
  <Override PartName="/ppt/slides/slide219.xml" ContentType="application/vnd.openxmlformats-officedocument.presentationml.slide+xml"/>
  <Override PartName="/ppt/slides/slide136.xml" ContentType="application/vnd.openxmlformats-officedocument.presentationml.slide+xml"/>
  <Override PartName="/ppt/slides/slide221.xml" ContentType="application/vnd.openxmlformats-officedocument.presentationml.slide+xml"/>
  <Override PartName="/ppt/slides/slide137.xml" ContentType="application/vnd.openxmlformats-officedocument.presentationml.slide+xml"/>
  <Override PartName="/ppt/slides/slide222.xml" ContentType="application/vnd.openxmlformats-officedocument.presentationml.slide+xml"/>
  <Override PartName="/ppt/slides/slide138.xml" ContentType="application/vnd.openxmlformats-officedocument.presentationml.slide+xml"/>
  <Override PartName="/ppt/slides/slide223.xml" ContentType="application/vnd.openxmlformats-officedocument.presentationml.slide+xml"/>
  <Override PartName="/ppt/slides/slide30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5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26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27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28.xml" ContentType="application/vnd.openxmlformats-officedocument.presentationml.slide+xml"/>
  <Override PartName="/ppt/slides/slide229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187.xml" ContentType="application/vnd.openxmlformats-officedocument.presentationml.slide+xml"/>
  <Override PartName="/ppt/slides/slide119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20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132-F584-497C-AFDE-205EE412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4C6-CB17-465F-8037-68FCD337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0D2-9387-4609-8589-1BF4ACBF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EAA-0239-4A82-AFA6-D201D437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126-520E-4744-9FF0-01120079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4FA-FA0B-4C4A-8D2D-CCEAF629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E20-C680-4DCD-81AE-C1B0CA4B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925-20AE-4DFA-8B37-A99E87EE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3F2-A763-48EA-9007-9D1612DB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C19-38BF-44A9-BFD2-E8EBCB81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8C7-C3C5-422E-8F9C-B4833BD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271-D6A0-425B-B5C2-74ACE889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C5D1-D35F-47D4-AC9C-87CEF0E8C43A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r-CS" sz="4800" spc="-1" strike="noStrike">
                <a:solidFill>
                  <a:srgbClr val="ea1a1a"/>
                </a:solidFill>
                <a:latin typeface="Arial"/>
              </a:rPr>
              <a:t>ФАКТОРИ КОЈИ УТИЧУ НА ЗДРАВЉ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гујева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звој биотехнологије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dous Huxley,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и нови св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1967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зија живота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25.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ма ни боле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 рато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људи се зачну у епрувет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рађају у лаборатори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ћни с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nome Sequencing Consortium, 2001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јашњена структура генома ч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нипулације у ге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ертилиз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сихотропне супстанц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ез нежељених дејстав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др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берална демократ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рожена могућност биотехнолог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г живот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 смањеним менталним капацитет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лобађање од депресиј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ли истовремено и од креативности и луду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кови који замагљу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у између оног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 остварујемо свој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собностима и услед хемикал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да настаје ДМ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04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и или апсолутни недостатак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екреције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инсули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/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и или апсолутни недостатак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деловања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инсу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јагноза постављена на основу следећих критерију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ликемија нашт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а у било ком случајном узорку крви ≥ 11,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карактеристичних симптома (полиурија, полидипсија, редукција телесне мас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изик од настанка КВБ, посебно ИБ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н код оболелих од ДМ тип1 и ДМ тип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. са ДМ имају 3-7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&gt;ризик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. са ДМ имају 2-3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&gt;ризик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75-80% одраслих са ДМ  умре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75% дијабетичара умрлих од КВБ, умре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Дијабетес мелит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3444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и ризик од КВБ и субклинички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 атеросклерозе имају особе с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олеранцијом на глукозу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кључујући 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повишену гликемију наш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мањену толеранцију на глук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инсулинску резистен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М прат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иглицерида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Остали или предиспонирајући фактори ризика за К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слеђ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бдоминални тип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зичка не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отреб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ралних контрацеп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сихосоцијалн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Наследни фактори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ктор ризика за КВ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овезани с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итивна породична анамнеза за ИБС (више оболелих чланова првог степена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 повећан ризик за ИБС у м. и 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ИБС имају особе чији су првостепени рођаци имали ИБС или друго атеросклеротично обољење  у млађем узрасту (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55.г.;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65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Наследни фактори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ђу жртвама ИМ чији су првостепени рођаци имали ИБС пре 65.г. живота, већи је проценат жена: 76%-6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ледне дислипидемије повећавају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3300"/>
                </a:solidFill>
                <a:latin typeface="Arial"/>
              </a:rPr>
              <a:t>Гојазност</a:t>
            </a: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 1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Остали или предиспонирајући 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ставља прекомерно нагомилавање масног ткива у т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ледица је превеликог енергетског у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Гојазност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2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002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епен гојазн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е процењује на основу индекса телесне масе (Б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М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≥30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ојазна осо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,0-29,9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телесна м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Гојазност 3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, 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,0-29,9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2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х већи ризик од ИБС у односу на оне са 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,0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, 40-65г., Б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25-29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кг/м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за 72% већи ризик да добију фаталну или нефаталну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азвој биотехнологије 2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50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ли је пренатални скринин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 побачајем 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плицитним исход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ва фаза још раније започе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ре еугени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тј. "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прављ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људског ро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з обзира на интере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кад рође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фект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це да се рад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вом-такв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т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родно семе заменити генетски модификова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бдоминални тип гојазности 4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стрибуција масти у организму важан фактор ризика за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бдоминални (андроидни, централни) тип гојазно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и ризик за ИБС у односу на оне са гиноидним или периферним типом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Одређивање абдоминалног типа гојазности ? 5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7559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нос обима струка и кукова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мо обим ст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ви параметри високо корелирају са ризиком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оцена ризика од КВБ 6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јазно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ип гојаз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Абдоминални тип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већан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ушкарци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94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жене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8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ако повећан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109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жене: обим стру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88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ц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Одређивање абдоминалног типа гојазности ? 7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им струка високо корелира са ризиком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ја телесне масе доводи до снижавања вред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триглицерида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Л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К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сулинске резистенције, хиперглике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и повезаност измеђ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јаз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мањене толеранције на глукоз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дијабетеса тип 2 и хиперт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Гојазност 8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76438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зам масти поремећ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купни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Триглице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Физичка не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води до повећања ризика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 са седентарним начином живота имају за 20-50% већи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Физичка не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8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хабилитација особа са ИМ доводи до редуковања смртности од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свих узрока за 2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ИБС за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изичка неактивност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дентарни начин живота (без физичке актив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мерена физичка активност у средњем животном добу смањује морталитет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Физичка активност 1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ава настајање прекомерне телесне м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крвни прити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 вредност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вредности укупног 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нивоа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ује ниво триглицер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Физичка активност,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дијабетичара доводи до повећања инсулинске осетљивости и регулације нивоа шећера у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Ризици који погађају ПОПУЛАЦИОНЕ ГРУПЕ И ПОЈЕДИ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Физичка активност,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7993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инсулинску осетљивост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регулација нивоа шећера у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диже психофизичку конди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диже способност одупирања стр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Неадекватна исх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лик унос масти и засићених масних кисе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и однос између уноса полинезасићених и засићених масних кисе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развој атеросклерозе и КВБ утич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средн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липопротеинемија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ње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тиче на 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концентрациј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 и ризик од КВБ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 из х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сићене масне киселине (посебно оне са 12 угљеникових ато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лик унос укупних 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52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штитни ефека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ана сиромашна засићеним ма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ана са пуно воћа и повр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сићене масне киселине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(омега 3 и 6 масне киселин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тективно делују н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жавају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жавају агрегацију тромб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у ризик од изненадне кардијалне см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у ризик од арит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Трансмасне кисели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ијају се од незасићених масних киселина процесом хидроген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вредност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жавају вредност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345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отеини анимал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морталитет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Рафинисане цереа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ју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ло воћа и повр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ризик умирања и оболевања од КВ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држе дијететска влакна, антиоксидансе (А,Ц,Е витами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лавоноиди), незасићене масне киселине, калиј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дификација липопротеина (путем оксидације) у зидовима артерија крвних судова доприноси стварању атеросклеротичног п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оцијално-економски поло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иниоци везани за понашањ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 начин жив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 Фактори ризика везани за адиктив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супстанције и сексуално пона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ктори ризика претежно везан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 животну и радну сред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 Фактори ризика претежно везани за исхран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 физичку акт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ледни и други непроменљиви чиниоц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  Насле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тходна бол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л и узрас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стали чинио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8360" y="549360"/>
            <a:ext cx="8209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Ризици који погађају ПОПУЛАЦИОНЕ ГРУПЕ И ПОЈЕДИН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Алкох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комерна употреб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0г. етанола дневно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 чашице ракије, 3 чаше вина или 3 флаше пи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од КВБ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аст крвног притиска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(?), триглицерида, фибриногена, агрегације тромб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лкохолна кардиомиопа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6560" y="2133360"/>
            <a:ext cx="66978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Алкох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мере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иј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мањује ризик од ИБ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декватна исхр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Алкохол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-вино (умерено пије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тектив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ефекат флавоно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снажнији антиоксида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ите од оксидаци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 vi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речавају агрегацију тромб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ују процес запа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бољшавају васкуларну функ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ују као фитоестрог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ећава плазм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Орални контрацепти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. тешки пушачи+О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0х већи ризик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5г.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шки пушачи+ОК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к од ИБ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20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ладе жене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К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виши ниво липида у серу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виши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слабија толеранција на глук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Психосоцијални факто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Тип А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х већи ризик од фаталне и нефаталне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рактерише их енергичност, предузимљивост, одговорност, више обавеза него вре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т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екуларни процес реаговања организ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еуроендокр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еур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оцијална изолова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Љут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Лош социјално-економски стат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Симптоми депрес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стали или предиспонирајућ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рије особе имају највећи скор за депресиј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40% већи ризик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60% већи ризик од умир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шија прогноза код особа са 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сихосоцијални фак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47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имптоми депрес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 ризика 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танак поновног инфар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шију прогнозу већ насталог инфар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танак КВБ код здравих ос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Метаболички синд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604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стали или предиспонирајућ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везан с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стовремено присуство бар 3 од 5 метаболичких поремећа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Артеријска хипертен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јазност андроидн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ДМ тип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Хипертриглицерид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нижен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шт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 инсулинској резистен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7553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ромашт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подразумева лоше социјално-економско стање, незапосленост, низак образовни ниво и незадовољавајући положај пород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д 13 детерминанти или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предуслова здр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чија су инверзна слика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фактори риз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за оштећење здравља, скоро су сви директно или индирект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езани за социјално-економски положај, тј. сиромаш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абилан екосисте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рживо коришћење ресурса - угоржавају глобализација, трка за просперитетом и 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95280" y="33336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изици који погађају популационе групе и поједи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оцијално- економски положај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Инфе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ли или предиспонирајући фактор ризика за ИБ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но узрочно повезан са КВБ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не инфекције повећавају ризик од ИБ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hlаmudophila pneumonia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2-4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 већи ризик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итомегаловир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.pyl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treptococcus sang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rphyromonas gingiv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УСЛОВНИ фактори (МАРКЕРИ, показатељи)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и у вези са КВБ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триглицерид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полипопротеин А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(apo A-I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полипопротеин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po-B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липопротеина (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суство маркера инфламације или инфекције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РП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а вредност фибрин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хомоцисте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Хипертриглицеридем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ни фактор(маркер, показатељ) риз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ћен ниски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ом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повећан ризик од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концентрације триглицерида за 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м/л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→пораст риз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КВБ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32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д м. и за 76% код 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Жене пре менопаузе имају ниже триглицериде него м. и ж. у постменопау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Аполипопротеин 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A-I (apo A-I)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и аполипопротеин 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Б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apo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з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по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A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жно протективно дејство на развој ИБ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љи маркер ризика од КВБ нег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по-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на протеинска компонента свих липо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ерогени липопротеини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ВЛДЛ-ц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триглицериди) садрже један молекул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по-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сваку партикулу липопротеина долази по један молекул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по-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љи показатељ ризика од атеросклерозе, односно КВБ нег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Липопротеин (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еза каузал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ста липопротеина  чији је липидски део по саставу идентичан с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Липопротеин (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75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ћава ризик од ИБС и када се искључи утицај других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жнији фактор ризика за 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и расту после менопаузе (као и триглицерида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укупног холестеро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3300"/>
                </a:solidFill>
                <a:latin typeface="Arial"/>
              </a:rPr>
              <a:t>Ц</a:t>
            </a: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- реактивни протеин</a:t>
            </a:r>
            <a:r>
              <a:rPr b="1" lang="sr-Latn-CS" sz="4400" spc="-1" strike="noStrike">
                <a:solidFill>
                  <a:srgbClr val="ff3300"/>
                </a:solidFill>
                <a:latin typeface="Arial"/>
              </a:rPr>
              <a:t> (ЦР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ни фактор(маркер, показатељ)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теросклероза је и запаљенски проц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стемски маркер запаљењ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ерумски амилоид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циток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интерлеукин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растворљив интрацелуларни адхезиони молекул типа 1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lCAM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-реактивни протеин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(ЦР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921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за измеђ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ризика 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ненадне смрт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риферних обољења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-реактивни протеин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 (ЦРП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о корелира 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лом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 са повишеним вредностим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ају већи ризик од ИБ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е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дексом телесне м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воом триглицер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 корелира са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олестеро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Фибриног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2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начајан фактор ризика з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итивно корелира 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олом (виши у же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уше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динама стар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ојазношћ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употребом 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стменопау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оцијално- економски положај 2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еосталих 10 предуслова здравља чине: становање, образовање, социјална сигурност, д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штвени односи, храна, доходак, оспособљавање жена, социјална правда, поштовање људских права и правед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Хомоцисте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ловни фактор (маркер, показатељ) ризика за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а КВБ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 да је веза каузална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дукт метаболизма метио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ханизам деловања није поз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тамин Б</a:t>
            </a:r>
            <a:r>
              <a:rPr b="0" lang="sr-C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Б</a:t>
            </a:r>
            <a:r>
              <a:rPr b="0" lang="sr-C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фолна киселина снижавају ниво хомоцисте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Хомоцисте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хомоцистеина у плазми (удружен са пушењем, хипертензијом и хипертриглицеридемијом) су фактори ризика за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ЕВЕНЦИЈА 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овина ХХ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еросклероза 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генеративна и иреверзибилна последица старења коју је немогуће избећ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ћност превенције огранич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евенциј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четак Х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нција и деловање на факторе ризика може 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пори прогресију атеросклер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могући делимично повлачење већ насталих про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и настанак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веде до клиничког побољшања већ настал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ињенице на којима се заснива активан приступ превенцији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совна појава КВБ чврсто повезана с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ачином живот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факторима ризика који се могу модифико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егавање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зразито снижење морталитета и морбидитета код особа са препознатим или непрепознатим КВ обоље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ПРИМОРДИЈАЛНА превенциј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авање настанка и успостављања (срединских, економских, социјалних и бихевиоралних) услова за које се зна да повећавају ризик оболе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се примењуј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је инциденција ниска или скоро одсу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лативно скоро дефинисан тер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зултат нових сазнања о епидемиологији КВ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Б ређе у Јапану и К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у исхрани мање засићених масти, 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велика учесталост других фактора ризика      (пушење, хипертенз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ВБ чешће у Финск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исхрана богата мастима животињског пор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носи се на припаднике популационих група које још нису изложене факторим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носи се на могућност деловања на гене (вид најраније примордијалне превенциј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5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ш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средини где не постоје фактори ризика за КВБ (неправилна исхрана) онемогућити њихово унош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ПРИМАРНА 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њење инциденциј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 остварити ци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ровођење поступака да до болести не дођ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бегавање или модификација фактора ризика који доводе до КВБ (у срединама у којима су фактори ризика већ присут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речавање излагања појединаца различитим фактор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Ризици који пога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ају популационе групе и појединце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ај појединих фактора завис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 тог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да ли се посматр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рталитет или неки суптилнији показатељ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L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 састава поп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лањ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 умирање у свету 1990. год. највећи значај имали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малнутри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11,7% свих узрока смрти) и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дув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6,0%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лањ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 DALI, у врху листе малнутриција (15,9%) и недостаци у водоснабдевању, санитарним условима, личној и кућној хигијени (6,8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ступи у примарној превенциј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ПОПУЛАЦИО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приступ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ијентација на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општу популаци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ИНДИВИДУАЛНИ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прист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ијентација на особе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под високим риз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Популациони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рист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3534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мен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чина живот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модификација фактора ризика) великог броја особа у попул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ктори који се могу модификовати популационим приступ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ш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правилна исх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зичка неакт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ључне тачке у примарној превенцији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оријентацијом на општу популацију (популациони присту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7632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Здравствено образо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мена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ачина живот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рипадника целе попул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ријентација на општу популацију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(популациони присту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 фундаменталног значаја за смањење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ајвећи број оболелих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од КВБ потиче из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велике груп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људи код којих је КП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благо повише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а не из мале групе са врло високим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Индивидуални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ст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дентификациј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јединаца 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исоки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ом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идентификација свих хипертонич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ре з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мањење изложен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појединаца са високим ризиком) факторим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лечење хипертонич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жна улог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лекара у ПЗ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ријентација на особе под високим ризиком (индивидуални приступ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4000" y="2924280"/>
            <a:ext cx="79311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ериорнији приступ у погледу резул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ревенција- Оријентација на особе под високим ризиком-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роцена индивидуалног ризика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ријентација на особе 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еликим риз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аблиц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одређивање профила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 ризика у наредних 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ревенција- Оријентација на особе под високим ризиком-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роцена индивидуалног ризика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ероватноћа настанка)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аблиц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сањ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офила фактора риз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сање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апсолутног ризик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вероватноћа настанка КВБ у одређеном периоду) сваке осо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ревенција-Оријентација на особе под високим ризиком-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цена индивидуалног ризика о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блице у обзир узимај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ачки стат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столни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купни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нос укупног 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аблице за процену индивидуалног ризика од К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ју приближне вредности будућег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имају у обзир тачне године старости, већ децен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имају у обзир да ли је неко пушач или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имају у обзир дужину пушачког ст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имају у обзир број попушених цига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2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мена методског приступа, под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директно неупоредивим са редоследом фактора ризика 2000.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цена индивидуалног ризика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јекција ризика неке особе до 60.г.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лада особа (20-30г.) која има НИЖИ апсолутни ризик, али лош профил ризика (пуши) у старијем узрасту имаће висок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штина коришћења 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проценити сопствени риз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почети са применом мера п.п.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14716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-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евенција фактора ризика (Европске препоруке) обухв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мена понашања (начина живот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еловање на остале факторе р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ако се спроводи превенција фактора ризика (Европске препоруке)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2708280"/>
            <a:ext cx="81471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примарној превен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секундарној превенцији (код особа које већ имају КВ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вропске препоруке за превенцију фактора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ширене на све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шу укупни ризик од настанка фаталног КВ догађаја з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особе са К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асимптомат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вропске препоруке за превенцију фактора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вои ризика у следећих 10г. дати су по категориј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да су потребне интензивније нарочито медикаментозне ме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није, гранична вредност (ранг)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нас, гранична вредност (ризик) 5% и ви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имарна превенција=превенција фактора риз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мена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разумева деловање на факторе ризика који су повезани са начином живота тј. понаша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ична је за пацијенте кој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мају КВБ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необолеле особ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зложене већем бро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а ризика (неадекватна исхрана, пушење, седентарни начин жив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евенција фактора ризик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– европске препоруке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ромена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станак 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а исхр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Деловање на остале факторе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комерна телесна маса и 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рвни прити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ипиди у плаз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чки 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982.г. Експертска група СЗО за КВБ препоручила и секундарну превен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Љ ме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ити рецидиве неких КВБ (ИБ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речити прогресију болести код особа које већ имају клинички развијену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зити морталитет код особа које имају клинички развијену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мерена на смањивање изложености факторим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мерена на терапијску заштиту коронарних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ла разлика између секундарне превенције и примарне превенције са оријентацијом на особе под високим ризиком (клинички видљива атеросклеротична болест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висок ризик од развоја коронарног догађа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марна превенција значајн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692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дикаментн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крининг блиских рођ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t 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62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Медикаментна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терапија 1/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кови за терапију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кови за терапију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вишених лип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кови з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дијабет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спири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све пацијенте са клинички испољеном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блокатори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за оне који су имали ИМ или дисфункцију леве коморе усле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дикаментна терапија 2/2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Ц инхибитори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оне који имају симптоме и знаке дисфункције леве коморе услед ИБС и/или 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тикоагуланси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за оне са ИБС који имају повећан ризик од тромбоембол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тат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према америчким препорукама обавезан су део секундарне превен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значај у смањењу сужења крвног с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мењање композиције атеросклеротичног плака(мања склоност ка руптурама и ерозиј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Скрининг блиских рођака 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998.г., Европске препору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но откривање болести у асимптоматској фа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кривање фактора ризика које је могуће модифико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крининг блиских рођака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8710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за откривање асимптоматске коронарне бол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Г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оптерећ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тале методе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цинтиграфија, холтер ЕКГ) се НЕ препоручу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крининг блиских рођака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146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за рано откривање фактора риз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совни скрининг: НЕ препоручује 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ортунистички скрининг: Хипертензију могуће открити (рутинско мерење КП особама које се јаве лекару ПЗ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ериодични скрининг: холестерол у плазми у 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35г. и ж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4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 превенција-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крининг блиских рођака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крининг модификујућих фактора ризика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 за рано откривање фактора ризика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са блиским сродницима са раном ИБС (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55г, 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65г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већи ризик з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собе са блиским сродницима који имају хиперхолестеролемију или наследну дислипидемију →већи ризик з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ЦЕРЕБРОВАСКУЛАР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Ц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тиологија ЦВ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мплек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врсто повезана са узроцима других болести циркулаторног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дентификован велики број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тиолошка разноврсност поремећаја здравља ове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 фактора ризика за настанак Ц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 Групе  фактора подложне модифик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елимично подложни модифик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еподложни модифик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Група биолошких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актори везани за начин жи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Генетск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рединск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за настанак Ц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елују удруж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еђусобно  се условљав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t 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ea1a1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Формирати профил фактора ризика за поједине типове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линичка хетерогеност МУ указује на различите факторе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удружена са свим типовима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лечење хипертензије води консеквентном смањењу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циден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и исхемијског и хеморагијског 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зумирање алкохола удружено са овим типом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Атеросклеро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тј. фактори који је условљава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ризик исхемијског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теросклероза фаворизује развој коронарне боле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инфаркт миокарда или атријална фибрилациј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(главни узроци кардиоемболијског 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тензија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е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раст концентрације фибриногена,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липидног статуса-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ризик исхемијског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за ЦВБ који нису подложни модификовањ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родична преди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ип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ност појединим етничким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за ЦВБ који нису подложни модификовањ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1280" y="233172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дентификовање особа са овим карактеристикама омогућа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кривање популације под риз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дузимање мера које имају за циљ да модификују оне факторе који су подложни проме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  за С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утозомно доминантно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наслеђив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са могућношћу антицип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исока 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сталост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мутациј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гена за алфа 1-антитрипсин код особа са 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тудије близанаца(генетски фактори и МУ)-преваленција МУ код монозиготних близанаца 5x виша у односу на дизигот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етаболички поремећаји значајни за етиологију ЦВБ су генетски условљ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оспективним студијама препозната као један од најзначајнијих фактора ризика за Ц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истолни,дијастолни ил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средње вреднос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корелација са ризиком и од исхемијског и од хеморагијског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4362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лација хипертензија-ЦВБ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ик од МУ удвостручава се с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дијастолног крвног притиска за сваких 7,5-10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рстина ове асоцијације опада са узра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релација хипертензија- ризик од МУ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изик од МУ између најнижег и највишег квантила дијастолног крвног притиска 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0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млађи од 4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5x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45-64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2x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старији од 6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золовано повећањ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столн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крвног притиск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2x повећава ризик ко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5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У најчешће код особа са "умерено" повишеним крвним притиском у средњем и старијем животном до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4 од 5 особа овог узраста не знају да имају хипертензију, или је не контролишу, или је не ле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ел здравља попул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дравствено стање у заједни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ређују два чинио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фордски уџбеник народног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а расположивог новца 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 његове распод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омедицински моде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 на траг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узроц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а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нивоу поједи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гових орг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ња овог мод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остављање улог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родноздравствених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ра и друштвених реформ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тицаја глобализа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значаја ангажов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штвене заједниц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решавању здравствених пи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50752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д 26 водећих фактора ризика за оптерећење болешћу у развијеним земљама већина би могла да се припише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онаш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авика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ачину живо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укључујући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рофесионалну изложе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ипертензија је фр. за обољења и стања која доприносе појави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теросклеро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повећање дебљине интим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по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ање стенозе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 ↑риз. ИМ 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теросклеротични плакови → емболизација крвних судов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↑нехемо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гијск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ИМ→тромби у левој с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чаној комори →извор ембол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Фактори ризика заТИА идентични као за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ИА се јавља код 25-50% особа пре појаве атеротромботичног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обе које су имале ТИА имају 7x већи ризик од МУ у дносу на оне без Т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изик од МУ највећи непосредно после Т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Болест срца као фр. за МУ(ИМ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x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ризик од развоја 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фибрилација преткомо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обољења срчаних залистака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М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олести коронарних артерија, застојна срчана инсуфицијенција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ипертрофија леве коморе, пролапс митралних валв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ибрил. претк. 5x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↑ризик од кардиоембо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јског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ризик расте за 5%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годишње;старија животна доб, хипертензија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Д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и срчана инсуфицијенција увећавају овај риз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Болести изазване биолошким агенсим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уматска грозниц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валв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ларне мане → емболизација крвних судов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меричка трипанозомијаз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(Шагасова болест)- 15 милиона оболелих у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.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мер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шење фр. за све типове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дстиче тромботичку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Р од МУ зависи од броја попуше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цигар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Р од МУ до 6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у односу на непуш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доминантан фр. за САХ код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ж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узрас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има значајан утицај на чврстину повеза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значај пасивног 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ајан фр. за 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лује независно у односу на друг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е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ате болести циркула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ног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говоран за 7% смрти од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аленц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МУ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болелих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са интолеранцијом  глук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Р од свих типова МУ: 1,8 код ж. и 3,0 код м. облелих од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ијабетес  фр. за исхемијски, али не за Х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ипергликемија и хиперинсулинемија убрзавају  атеросклеротични проц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инеарна повезаност ризика од МУ и нивоа глукозе или инсулина у крв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е постоје докази да редукција нивоа глукозе у крви доводи до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↓ ризика од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Веза АПОЕ 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лиморфизам гена за АП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друженост присуства епсилон 2 и епсилон 4 алела АПОЕ са високим нивоом укупног холестерола и ЛДЛ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/</a:t>
            </a:r>
            <a:r>
              <a:rPr b="1" lang="sr-R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псилон 3 алел АП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псилон 2 и 4 АПОЕ носилаца чешће тромбоемболијски, али и хеморагијски 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Јачина повезаности расте са узра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је запажена у јапанској попул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омоцистеин у серуму и плазми и М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зитивна асоциј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иолошки механизми који ову удруженост објашњава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ксидација ЛДЛ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иректно токс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о деј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собе са високим ризиком од МУ имају специфични генетски профи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ентификовати особе с позитивним генетским маркер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л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ти п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так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дификовати фр. подложне проме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ломорфизам гена за ензиме (ангиотензин-конвертујући ензим, метилен-тетрахидрофолат редуктаза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лиморфизам гена за фибриноге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себно се издваја првих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који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посматрано за оба пола :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уван, крвни притисак, алкохол, холестерол, телесна маса, недовољан унос воћа и поврћа и физичка неактивн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ри 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 њима формално спадају у тзв. физиолошке или метаболичке факторе ризика, али су и они пресудно од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ни људским понашањем и подложни су ефикасним мерама примарне прев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Фактори одговорни за коагулацију крв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фибриног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плазминоген активатор инхибитор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ткивни плазминоген актив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тичу на агрегацију тромб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тичу на вискозитет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врсто повезани са настајањем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Алкохол и Х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кутни и хронични утицај на крвни прити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отективни ефекат алкохола ако се не конзумир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2 пића дне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тективно деловање 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"Неми" 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3640" y="1530000"/>
            <a:ext cx="8507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езависни фр. за неми исхемијски инфаркт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хипертензија,пушење, низак ниво ХДЛ холестерола, повишена активност фактора коагулације VIII, висок ниво хомоцистеина, хиперкоагуабилна стања и хемостатски фактори, генетски маркери(фактор V Leiden, протромбин 20210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лел и АП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Ц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0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вентивне ме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део оболевања и умирања од ЦВБ 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 бити спрече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јације у учесталости болести у времену и простору између земаља, као и унутар земљ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МУ није непроменљ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удије миграната: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е које су промениле место боравка "пролагођавају"се ризику земље 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ћ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дијент ризика за поједине факторе: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вни притисак пушење, физ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домизоване контр. студиј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зика од МУ последица редукције најважнијих срединских ф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иступи у превенцији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Намењен особама са високим ризиком од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 редуковати утицај најважнијих ф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Популацион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ИЉ: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нтервенцијама смањити утицај ф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оузов превентивни парадок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фекат превентивних мера од велике користи за популацију, релативно мали за поједи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фектнији прист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 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јз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чајнији и најконзистентнији фр. за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 и контрола хипертензије има централно место на свим нивоима пре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Хиперлипидемиј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глукозе, пуш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ја има релативно мање ефекте него код коронар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ЦВБ 1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кушаји да 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спори и одложи развој хипертензије у најранијим периодима живота (детињство, адолесценција и млађе адултно доб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азвију навике које фаворизиј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изичку активност и сп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схрану са мало соли а богату калијум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орба против пушења и ексцесивног конзумирања алкох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 ЦВБ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2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дравствено просвећива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једна од најважнијих акт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оди модификацији фр.везаних за стил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МУ 3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руцијални значај у примарној превенцији М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но откривање хиперт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омптно и ефективно лечење хипертензиј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медикаментозно, редукција уноса соли и масти анималног порекл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исхрани, редукција уноса алкохола и дувана и контрол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4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рвни притисак за општу популациј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птималн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ци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20/80ммХ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и ци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40/90ммХ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Антихипертензивни лекови  редукују ризик од првог МУ за 38% међу леченим особ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Ефекат антихипертензива у сек. превенцији МУ ни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5/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ноги фактори ризика се јављају 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удружен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како на нивоу појединца, тако и на нивоу популац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ада су сви мање-више условљени понашањем и начином живота, то груписање их дели у три груп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5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евентивни програми за престанак пушења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аветовалишта за одвик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омовисање предности живљења без дув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јјачи доказ за корист од престанка пушења: код особа које су престале да пуш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ризик од МУ се изједначава са непушачима током 5 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МУ 6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тини у превен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тективни ефекат у превенцији фаталног 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начај у превенцији свих облика М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себно код особа које имају и коронарну бол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нижавају ЛДЛ 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билизију вулнерабилне атеросклеротичне плак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прављају мождану циркул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7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меричко удружење за срце препоручу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дукацију становништва о праћењу липидног стат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модификацију исхране у зависности од поремећаја липидних фракција у т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јању од 6 месе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ришћење лекова уколико је ЛДЛ холестеро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30мг/д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8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58920" y="1789200"/>
            <a:ext cx="853416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схрана богата свежим воћем и поврћем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едовним оброцима или између њих унети бар 5 "порција" воћа и/или поврћа дне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гуларна физичка активност(минимум 30 мин./дневно умерена или интензивна физичка активно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нзумирање алкохолних пића свести на 2 дневно за м. и 1 за 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Примордијална и примарна превенциј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 9/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прављање гликорегу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трол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трола инсулинске резист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ткрити и лечити хипертензију код особа са дијабетесом (тип 1 и тип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ткривање и лечење ТИ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ткривање и лечење реверзибилних исхемијских дефи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ткривање и лечење стања која претходе комплетном 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нтитромботичка терапија код ТИА у периоду који је краћи од 12ч.пос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почетка симпто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аротидна е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ртеректом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висок степен стенозе каротидних артерија  тј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70%према ангиографском налазу) отклања ризик за наредних неколико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фикасност промптног л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чења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 вези са организацијом здравствене слу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ање јединица за МУ (мултидисциплинарни приступ, лечење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смртност од МУ током прве године после атака смањује се за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Терцијарна превенција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 Ц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29840" y="148392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дразумева рехабилитацију после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И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прављање покретљивости до максимално могућег ниво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говорне ве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сихолошк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оцијалн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бољшање квалитета живота болесника и његове пород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зазови за 21. 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већање преваленције Ц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арење попу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грес у лечењу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огрес у другим видовима здравствене заштите и социјалне подрш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пад летал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ма превенције епидемиј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ављена под контролу(Јап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ија од МУ и даље вис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орталитет од МУ и даље в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зазови за 21.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спешна апликација постојећег знања о етиологиј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дентификација нових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асветљавање генетске подложности домаћина за настанак хипертенз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асветљавање генетске подложности за настанак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Чиниоци везани за понашање и начин живот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 6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Фактори ризика везани за 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адиктивне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супстанције и сексуално понаш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животну и радну 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сре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</a:t>
            </a: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исхрану и физичку активност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8040"/>
            <a:ext cx="807552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тоји јака повезаност изм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 коришћења дувана, алкохола и нарко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потреба алкохола је у чврстој вези са ризичним сексуалним односима и сексуалним злостављањем деце, као и повред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61880" y="115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адиктивне супстанције и сексуално пона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06520" y="755640"/>
          <a:ext cx="8229600" cy="5857920"/>
        </p:xfrm>
        <a:graphic>
          <a:graphicData uri="http://schemas.openxmlformats.org/drawingml/2006/table">
            <a:tbl>
              <a:tblPr/>
              <a:tblGrid>
                <a:gridCol w="2601720"/>
                <a:gridCol w="5627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 плућа, горњих аерогених и дигестивних путева, многи други малигноми, ХОБП, др. респираторне и све васкуларне бол., др. мед. узроци болест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0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КОХ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хипертензивна болест, ДМ, рак јетре, уста, орофаринкса, дојке и езофагуса, други малигноми, цироза јетре, епилепсија, хронична алкохолна интоксикација, депресија, намерне и ненамерне пов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КОМА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,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дозирање, хронична интоксикација, самоубиство, повреде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ЧАН СЕКСУАЛНИ ОД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V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лнопреносиве инфекције, рак грлића матер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СУАЛНО ЗЛОСТАВЉАЊЕ ДЕ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ресија, панична стања, алкохолизам, наркоманија, посттрауматски стресни поремећај, самоубиство у одрасло д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СУСТВО КОНТРАЦЕП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левање и умирање труд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1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к најсмртоносније епидемије мо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ог д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јзначајнији  појединачни узрок превременог умирања у развијеном све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д преко 4000 хемијских супстанција у дуванском диму, неке попут никотина, оштећују крвне судове, док друге, као што су катрани, имају утицаја на канцерогенез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2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 срединама с вишедеценијском навиком пушења, оно учествује у структури умирања средовечних особа (35-69 година) са 90% за рак плућа,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5-20% за остале малигноме, 75% за хронични бронхитис и емфизем и 25% з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3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ајвише се пуши у Русији (скоро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становништва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а најмање на Бахамима (око 1/8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матрано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по по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предњаче мушкарци у Ј. Кореји (68%) и жене у Данској (37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4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ад учесталости пушења у цивилизованом свету стрмији је 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 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тако да је у низу западних земаља однос 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 пушача исти (Данска) или је, као у Шведској, више никотинс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зависника м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 ж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24%:22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а изузетком Данске и Норвешке, где пуши више од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пулације, у остатку развијеног света преваленција пушења је ниж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о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кларација из Џакар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1977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ин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етерминанти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ми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тано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образов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оцијална сигур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друштвени однос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хр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доход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оспособљавање ж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табилан екосист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одрживо коришћање ресур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оцијална прав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поштовање људских пр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правед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уство детерминан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дравља или предуслова здр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вара пут оболевањ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ђивањ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способности и умир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i="1" lang="sr-C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уван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 5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а би се ризик бившег пушача потпуно изједначио с ризиком непушача потребно је да про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е 20 година за рак плућа, 15 година 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БС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(мада се ризик пушача преполовљује после само годину дана непушења) и 5-15 година за апоплексиј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везани за адиктивне супстанције и сексуално понашањ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Алкох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а највећи утицај на структуру DALI-ја мушкараца у развијеном свету а, када се посматрају оба пола,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м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ча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 настанак преко 60 врста болести и повреда, а под од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им условима може да има и извесне корисне ефе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погубнија дејства испољавају се оштећењима ЦНС и повредама, у целини узев његов ефекат 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исте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гати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светским размерама "нето ефекат" алкохола (разлика из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њиме спречених и изазваних  смрти)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гати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животну и радну сред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ромена кли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је глобални феномен, али је лакше суочити се с њеним последицама у развијеним средин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стали фактори ризика из ове груп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 имају, у мањој или већој мери, шири значај, с тим што сви, без изузетка, много већи проблем представљају у неразвијеним деловима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61880" y="115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 животну и радну сред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6520" y="755640"/>
          <a:ext cx="8229600" cy="5861160"/>
        </p:xfrm>
        <a:graphic>
          <a:graphicData uri="http://schemas.openxmlformats.org/drawingml/2006/table">
            <a:tbl>
              <a:tblPr/>
              <a:tblGrid>
                <a:gridCol w="3346200"/>
                <a:gridCol w="4883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оженост на радном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намерне повре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лагање оло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Б, блага ментална ретард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бано аерозагађ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ирање услед комбинованих РЕС и КВ узрока одраслих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0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ак плућа,умирање дец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5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sr-Latn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след акутних РЕС инфек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ђена вода, низак санитарни ни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рејални синд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. излож. канцероген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укемија, рак плућа, мезотели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ђење ваздуха на рад.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БП, аст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а на радном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битак сл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 од чврстих горива у кућ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е инфекције доњих РЕС путева деце &lt;5 г., ХОБП, рак плућа (угаљ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гономски стрес на рад. ме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 у леђи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ње ињекциј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тне инфекције које изазивају ХБВ, ХЦВ и Х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на кл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реја, повреде услед поплава, маларија, малнутриција; денга, умирање од КВБ, ефекти везани за кретање попул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Фактори ризика претежно везани за исхрану и физичку активност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Фактори ризика претежно везани за исхрану и физичку актив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ухрањеност и недостаци витамина А, гвожђа и ци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о превалентни у сиромашним земљ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ружено погађају исте, друштвено депривиса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и ризика везани за болести обиља (седентарни начин живота и неодговарајућа, преобилна или неадекватна исхра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ромашне зем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емље развијеног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61880" y="115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 исхрану и физичку активност 1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06520" y="755640"/>
          <a:ext cx="8229600" cy="5425920"/>
        </p:xfrm>
        <a:graphic>
          <a:graphicData uri="http://schemas.openxmlformats.org/drawingml/2006/table">
            <a:tbl>
              <a:tblPr/>
              <a:tblGrid>
                <a:gridCol w="3346200"/>
                <a:gridCol w="4883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Неухрањеност мајке и дет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ак гвожђ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емија и њене секвеле (укључујући конгитивна оштећења, мартенални и перинатални М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храње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ирање и оболевање од дијареје, маларије, малих богиња и пнеумоније итд., перинатална стања услед неухрањености мај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акци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јареја, пнеумонија, малар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ак витамина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ирање од дијареје, малих бигиња, маларије и др. инф. бол. (дец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5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), оболевање од маларије  (дец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5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), умирање трудница, секвеле недостатака овог витамина (све узр. г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61880" y="11592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Ефекат на здравље најзначајнијих фактора ризика везаних за  исхрану и физичку активност 2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06520" y="755640"/>
          <a:ext cx="8229600" cy="5211720"/>
        </p:xfrm>
        <a:graphic>
          <a:graphicData uri="http://schemas.openxmlformats.org/drawingml/2006/table">
            <a:tbl>
              <a:tblPr/>
              <a:tblGrid>
                <a:gridCol w="3346200"/>
                <a:gridCol w="4883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 Р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АТ НА ЗДРАВЉ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Остали фактори везани за исхрану и физичку актив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 крвни притис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хипертензивна болест и др. болести ср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 ниво холестер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; др. болести ср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на телесна ма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хипертензивна болест и др. болести срца, дијабетес, остеоартритис, рак ендометријума и колона, постменопаузални рак дој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вољан унос воћа и поврћ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апоплексија, рак колона и ректума, желуца, плућа и езофагу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ка неактив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С, рак дојке и колона, дијабетес; траума услед пада и остеопороза, остеоартритис, бол у леђима, рак простате и ректу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 истих особа симултана појава низа фактора ризика КВ и других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штина патогенетског механиз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сулинска резистенција мускулатуре (смањена осетљивост ћелија на деловање инсул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сулинска резистенција мускулатуре је фенотипска карактеристика везана за тзв. "штедљиви"  генотип који је прачовеку омогућавао очување мишићне масе или конзервацију енер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и средине, пре свега гојазност и седентарни начин живота, уз дужи људски век учинили да еволуциона предност постане "важан узрок ... болести западне цивилизациј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дентификован рецептор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AP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чија деактивација условљена гојазношћу, иницира инсулинску резистенцију и развој метаболичког синдрома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ТЕРМИНАНТ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ЗДРАВЉ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 ЕТИОЛОГИЈА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ОРЕМЕЋАЈА ЗДРАВ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тиологија поремећаја здрављ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ГЛОБАЛН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грожавају опстанак човека на плане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ГРУПНИ , ПОЈЕДИНАЧНИ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ци који погађ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пулационе груп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поједи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ажност некретања и телесне масе је у стварању </a:t>
            </a: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sr-Latn-CS" sz="3200" spc="-1" strike="noStrike">
                <a:solidFill>
                  <a:srgbClr val="000000"/>
                </a:solidFill>
                <a:latin typeface="Arial"/>
              </a:rPr>
              <a:t>culusa vitiosusa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већа телесна маса → већа инсулинска резистенција → већа секреција инсулина → већа вероватноћа настанка метаболичког синдрома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зумевање тог патогенетског механизма је и путоказ за превентивну акц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постоји строго дефинисана листа елемената који чине метаболички синдром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"Смртоносни квартет"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јазност централног 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емећај толеранције глик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триглицерид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уштина метаболичког синдрома х ?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1/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бинација инсулинске резистенције и компензаторне хиперинсулин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ена толеранција гликозе (укључујући тип 2 или инсулин независни Д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ални тип гојаз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липидемија тј. повишене концентрације "штетног" холестеро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DL-C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често уз смањење димензије његових партикула, повишене концентрације триглицерида, ниске концентрације "корисног" холестерола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DL-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уштина метаболичког синдрома х ?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2/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урик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сфибринолиза (повишене концентрације фибриногена и инхибитора плазминогенског активатора типа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уштина метаболичког синдрома х ?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едени поремећаји се не јављају увек и код свих испитаника са метаболичким синдромом х, али је њихова удружена учесталост знатно већа него што би се очеки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дијагнозу метаболичког синдрома х неопходно присуство бар три знака од следећих тј. критеријуми дефинисаног МСХ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ећана телесна маса (обим струка већи од 102цм за мушкарце и 88цм за же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во серумских триглицерид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≥150мг/дл (1,69ммол/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во "корисног"холестерол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DL-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40мг/дл (1,04ммол/л) за мушкарце и 50мг/дл (1,29ммол/л) за ж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вни притисак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≥130/85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во серумске гликозе (наште) ≥ 110мг/дл (6,1ммол/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синдром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аленција МСХ (дефинисаног благим критеријумима) достиже 32% међу свим одраслим Американцима мексичк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ажно са становишта унапређења здравља и превенције болести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и образац понашања и стил живота удружени са већином водећих фактора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и фактори ризика одговорни за многе најзначајније поремећаје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овање тих фактора често мултипликативно ( исхемијска болест срца или рак плућ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Ризици који пога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ају популационе групе и појединце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 -</a:t>
            </a:r>
            <a:r>
              <a:rPr b="1" i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Наследни и други непроменљиви чинио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Насле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аследна компонента је важна за многе поремећаје здрав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да су у  питањ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водећи узроци оболевања, неспособности и умирања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ад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генима слабе пенетрантн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лигенском типу насл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 фактора средине, укључујући навике и начин живота, зависи да ли ће се и када болест испољи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идемиолошким истраживањима открив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редински чиниоци, како би се превенирала бол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ервенције у геному представљ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адикално реш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Наследни и други непроменљиви чинио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ретходна бол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Чињеница да неко у својој анамнези већ има податак о епизоди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не болести или повреде чини га много рањивијим за нови атак, било да је у питању инфаркт миокарда, мождани удар, рак дојке, напад астме или покушај самоуби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Пол и уз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тицај пола одвија се углавном двојако: преко хормонског статуса и понашања, као социјално условљеног фено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зраст је варијабла с највећим утицајем на здрављ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Узрасн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труктур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морталитета има облик искошеног слова Ј или удице у развијеним деловима света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блик сличан слов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земљама у разво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Ризици који пога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ају популационе групе и појединце</a:t>
            </a:r>
            <a:br>
              <a:rPr sz="3200"/>
            </a:b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Остали чинио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из фактора риз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биолошки агенс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психогени стрес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механичка сил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и сл.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везани за једну одређену групу поремећаја здрављ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АРДИОВАСКУЛАР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1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507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чешћи и најважнији уз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почиње у 2. деценији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ЈЕ познато зашто настаје и зашто се формирају атероматозне плоче (плак)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исфункција ендоте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и облитерација крвног с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2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нати су фактори кој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спешу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станак атеросклерозе у млађем узра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еросклероза ј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избежа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роц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85г. који немају ниједан ф.ризика око 60% коронарних артерија прекривено је атероматозним плако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3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стабилна ангина пекторис, ИМ, изненадна срчана смр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следица већег степен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ужењ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лумена коронарних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за КВБ ПАТОАНАТОМСКИ СУПСТРАТ-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Атеросклероза, 4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аркт миокарда, смр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 у 30-40% последица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јако сужених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оронарних крвних суд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 последица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рупту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атеросклеротичне плоче и стварања стабилног опструктивног тром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нфламац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 руптури плака (акумулација и активација инфламаторних ћ. у атеросклеротичној плочи мења њен састав и стабилност→ значај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других маркера инфлама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ФАКТОРИ РИЗИКА за КВБ -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Циљ лекара и болесника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640" y="2565000"/>
            <a:ext cx="7561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ловати на познате факторе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ложити атеросклер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за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"ФАКТОРИ РИЗИК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ви пут поменути у Фрамингамској студији испитивања КВБ 1961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значава факторе чије је присуство повезано са појавом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за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7777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3300"/>
                </a:solidFill>
                <a:latin typeface="Arial"/>
              </a:rPr>
              <a:t>ГЛАВНИ ФАКТОРИ Р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Остали или </a:t>
            </a:r>
            <a:r>
              <a:rPr b="0" lang="sr-CS" sz="4000" spc="-1" strike="noStrike" u="sng">
                <a:solidFill>
                  <a:srgbClr val="ff3300"/>
                </a:solidFill>
                <a:uFillTx/>
                <a:latin typeface="Arial"/>
              </a:rPr>
              <a:t>предиспонирајући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 фактори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3300"/>
                </a:solidFill>
                <a:uFillTx/>
                <a:latin typeface="Arial"/>
              </a:rPr>
              <a:t>Условни фактори ризика (Маркери</a:t>
            </a: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 риз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ГЛАВНИ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 фактори ризика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за КВ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 од других факто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са КВ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уше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Л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зак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ијабете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зраст  и 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колошке прет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звој биотехн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11280" y="836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Остали или </a:t>
            </a:r>
            <a:r>
              <a:rPr b="0" lang="sr-CS" sz="3600" spc="-1" strike="noStrike" u="sng">
                <a:solidFill>
                  <a:srgbClr val="ff3300"/>
                </a:solidFill>
                <a:uFillTx/>
                <a:latin typeface="Arial"/>
              </a:rPr>
              <a:t>предиспонирајући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 фактори ризика за КВ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зроч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ма доказа да је веза независ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 односу на друге ф.ризика) са КВ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ојаз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бдоминални тип гојаз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ала 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отреб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ралних контрацепти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адекватна 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слеђ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сихосоцијалн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Условни фактори ризика, маркери риз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и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 вези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с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ВБ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ма доказ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а је вез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аузал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а вредност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риглицер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а вредност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брин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суство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аркера инфламације или инфекције (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ЦРП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омоцисте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ишене вредности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липопротеина 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тиологиј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ултифакторија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нтеракциј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ф. р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особа која им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1 ф.ризик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да о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особе које имају тек нешто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ало повишене вредности неких ф. ризик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удружено се појављују) имај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да оболе него особе које имају врло изражен, али само један ф.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3300"/>
                </a:solidFill>
                <a:latin typeface="Arial"/>
              </a:rPr>
              <a:t>ФАКТОРИ РИЗИКА</a:t>
            </a:r>
            <a:r>
              <a:rPr b="0" lang="sr-C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за КВ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променљив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слеђ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менљиви (модификујући, подложни превенцији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фактори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и о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НЕПРОМЕНЉИВИ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ризика-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Узраст и пол,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и с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к од КВБ  расте са узрастом код оба по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ушкарци чешће оболевају до 65.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ж. после менопаузе ризик од ИБС прогресивно расте, изједначава се или чак премашује ризик код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Узраст и пол,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лативна заштита од ИБС код пременопаузалних жен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тективна улога естр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строген утиче на процес атеросклер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нижава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купни холестерол и ЛДЛ-Х, липопротеин(а), хомоцист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овећава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ХДЛ-Х, метаболизам липида, вазодилат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–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Пушење, 1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ан од главних модификујућих фактора ризика за К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дишње у Европи умре 1мил. м. и 200.000 жена (350.000м. и 80.000ж.- узрок смрти је КВБ као последица пуше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рбији, од оптерећења друштва болешћу које се приписује ИБС, 18,5% је у вези са пуше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–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Пушење, 1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921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50% смртних исхода који су могли бити избегнути последица су пушења, а од тога ½ настала је услед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ачи имају 2-3х већи ризик од настанка КВБ од непуш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, 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заност пушења и настанка КВБ зависи од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тј. нежељено дејство пушења зависи 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личине дневно попушених цига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влачења 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жине пушачког стаж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 (јаче изражено код ж. него код 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четак пушењ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15г.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 и ризици, 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70% већи ризик пушача да умру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40 цигарета дневн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умирања од ИБ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за 200-3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настанка КВБ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пушач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који живи у заједници са пушачем или бившим пушачем, у односу на неекспони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времена менопау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ризик з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ђени на конвенционалан на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Већа пространст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ужја за масовно уништа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ход катаклизмичких раз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rancis Fukuyama,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ај историје и последњи чове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1992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ућност је као узлет у неб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ављена од напрет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свим пољ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 и у области народног здрав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amuel Hunt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"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коб цивилиз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измена светског порет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1996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е између народа нису идеолош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итич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економс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 култур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ивалитет суперси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мењен сукобом цивилиз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 и ризици, 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међу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ушењ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вредност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ЦР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фибриноге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хомоцистеи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стоји позитивна и независна веза у односу на друге фак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ачи имају виши ниво ЦРП (запаљенски процес и хиперхомоцистеинемија имају улогу у атеросклероз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ушење - механизам повећања ризика,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7921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икоти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главни састојак дуванског ди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 васкуларн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онус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и артеријски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паза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(који су у корелацији са дозом инхалираног никот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ушење - механизам повећања ризика, 2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гљен моноксид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у дуванском диму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мети метаболизам васкуларних ћел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 ниво куларних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 ниво карбоксихемоглобина у к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→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исеонични слободни радикали оштећују ендо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ушење - механизам повећања ризика, 3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2420640"/>
            <a:ext cx="7993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Закључ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е убрзава настанак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тероматозних про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шење значајно за појаву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тромбозе на пла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ушење и ризици, 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станак пушењ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ИБС се смањује за 50% унутар једне г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ИБС изједначава се са ризиком непушача унутар 5-1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пушења особе која је имала инфар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реинфаркта, изненадне смрти и укупног морталитета се смањује за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-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Повишене вредности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ЛДЛ-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холестерол и снижене вредности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ХДЛ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-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упни 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попротеин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еома ма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устин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ЛД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адрже умерену количину холестер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главни носилац триглицер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попротеин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устин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-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попротеин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елик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устин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јситнији међу липопротеин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у инверзној вези са ИБ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Повишене вредности </a:t>
            </a:r>
            <a:r>
              <a:rPr b="0" lang="sr-Latn-CS" sz="3600" spc="-1" strike="noStrike">
                <a:solidFill>
                  <a:srgbClr val="ff3300"/>
                </a:solidFill>
                <a:latin typeface="Arial"/>
              </a:rPr>
              <a:t>ЛДЛ-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холестер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соке концентрације укупног холестерола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олестеро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лавни фактор ризика за ИБС оба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3. и 4. декади ниво холестеро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 менопау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холестерол расте и већи је у 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естроге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активнос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Д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рецептор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→расте ЛДЛ-холест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вишене вредност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ЛДЛ-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7848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већа компонента укупног 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же да уђе у зид ар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зиду артерије остаје ако се хемијски измени оксидацијо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→ изазива атеросклер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Снижене вредности </a:t>
            </a:r>
            <a:r>
              <a:rPr b="0" lang="sr-Latn-CS" sz="3600" spc="-1" strike="noStrike">
                <a:solidFill>
                  <a:srgbClr val="ff3300"/>
                </a:solidFill>
                <a:latin typeface="Arial"/>
              </a:rPr>
              <a:t>ХДЛ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-холестер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1,6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настанк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нижене вредност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-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едност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 у плазми инверзно корелирају са ризиком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ене током читавог живота имају веће вредност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постменопаузи пад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лестерола је главни фактор ризика од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колошке претње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rson R. , 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о проле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 196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ет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ДТ-ја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ст о нарушен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олошкој равнотежи и опаснос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ат књиг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олошки покре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крет зеле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ак на политичаре да нешто уч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Загађивачи органског порек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стиц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 од ризикла по здрав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Измене кли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ед ослобађања угљендиокси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друг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сова стаклене баш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"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лих сагоревањем фосилних гор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та све топ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име бла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љни и животињски свет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..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нижене вредности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-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1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ХД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холестер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јситнији међу липопротеин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о пролази кроз зид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узрокује атеросклер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иво укупног холестерола у плаз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632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5,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ммл/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развоја ИБС од особа са нижим вредно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ије довољан за предвиђање ризика, морају се одређивати и вредности осталих компонен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Повишене вредности </a:t>
            </a: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ЛДЛ-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холестер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5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3,4 ммл/л→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ризик од настанка К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- </a:t>
            </a:r>
            <a:r>
              <a:rPr b="0" lang="sr-CS" sz="4000" spc="-1" strike="noStrike">
                <a:solidFill>
                  <a:srgbClr val="ff3300"/>
                </a:solidFill>
                <a:latin typeface="Arial"/>
              </a:rPr>
              <a:t>Артеријска хипертен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5075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Х је кардиоваскуларно обољ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 са КВБ (ИБС, хипертрофија миокарда, срчана инсуфицијенциј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ција: Хронично обољење у којем је СК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К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Граница између особа са и без 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848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је ја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ела је арбитра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ела зависи од присуства других обоље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особа са хроничним бубрежним    обољењем и протеинурујом идеални КП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≤ 125/75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ласификација нивоа 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490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вропске препоруке за превен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меричке препоруке за превен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зик од КВБ сразмеран је порасту притиска почев од 115/75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им порастом притиска за 20/1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изик од КВБ се удвоструч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ка и независна веза СКП и ДКП са оболевањем и умирањем од КВБ (посебно код младих и особа средњих год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345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са АХ им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-4х чешће инфаркт миок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шћу ИБ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8х чешћи 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особ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50г., СК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14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важнији је фактор ризика за КВБ од Д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690мил. одраслих у свету има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Х одговорна за 5-6% укупног ум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 Србији од оптерећења друштва болешћу које се приписује ИБС, око 21% се доводи у везу са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П расте са годинама жи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П је већи код м. за око 6-1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ве до 70-79г. када са изједначава код оба п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П после менопаузе ра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ормонска супституциона терапија утиче на редукцију КП у постменопау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0000"/>
                </a:solidFill>
                <a:latin typeface="Arial"/>
              </a:rPr>
              <a:t>Глобални ризиц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колошке претње2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Истањење озонског омотач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стратосф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Ризици против којих је мало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или ни мало предузе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станак биљних и животињ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генерација земљиш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рушавање циклуса кружења азо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мпора и других елемената у приро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ањење резерви во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рживост животне сред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задовољавање садашњих потреб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 угрожавања потреба наредних гене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ција ДКП за 5-6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током петогодишњег периода смањуј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ризик од ИБС за око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број ИМ за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број реинфаркта и смртних исхода код  особа са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Х се често јавља код особа са позитивном породичном анамнезом (посебно ако оба родитеља имају ово обољењ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991280" cy="41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ка веза између КП и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аленција АХ имиграната (из подручја са ниским у подручје са високим уносом соли) слична преваленцији тог новог подруч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им уношењем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алију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редукује се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мере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зичка активнос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контрол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начајно редукује 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П се више снижа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дукцијом Т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его ограниченим уношењем соли  хра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едитеранска исхра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а мало пуномасних производа, снижава КП за 11,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±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5,5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mH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д пацијената са благом хипертенз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ка позитивна веза између претераног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лкохо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висине К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олеранцијом на глукоз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/ нормогликемич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мају 2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изик од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за КП,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ог типа гојазн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и високог ниво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сули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присутна код одраслих, деце и адолесце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појаву АХ утиче неповољан утицај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редин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т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б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пренасеље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наси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иромаш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лоши социоекономски усл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ле ТТ на рођењ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већег крвног притиска у каснијем животном до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ре у лечењу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благ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хипертенз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НАЧИНА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ењ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елесне мас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д гојаз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ил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граничен унос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сол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5г/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стрикција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лкохо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(10-30г/дан за м.;10-20г/дан за ж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довна умере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ре у лечењу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умерен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тешк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хипертенз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НАЧИНА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ањењ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елесне мас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д гојаз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ил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с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граничен унос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стрикција унос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лкохол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довна умерен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физичка 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уш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ДИКАМЕНТОЗН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изик од КВБ у хипертензивних пациј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сте прогресивно 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ивоом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жином трајања 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МЕНЉИВИ (модификујући)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ктори - </a:t>
            </a:r>
            <a:r>
              <a:rPr b="1" lang="sr-CS" sz="4000" spc="-1" strike="noStrike">
                <a:solidFill>
                  <a:srgbClr val="ff3300"/>
                </a:solidFill>
                <a:latin typeface="Arial"/>
              </a:rPr>
              <a:t>Дијабетес мелит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5614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3300"/>
                </a:solidFill>
                <a:latin typeface="Arial"/>
              </a:rPr>
              <a:t>Један од главних фактора ризик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казано узрочн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независн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везан са КВ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арактеристике ДМ синдр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7128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онична хипергликемиј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емећај метаболизма масти, угљених хидрата и беланче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8T10:21:06Z</dcterms:created>
  <dc:creator>OGI</dc:creator>
  <dc:description/>
  <dc:language>en-US</dc:language>
  <cp:lastModifiedBy>Vucko</cp:lastModifiedBy>
  <dcterms:modified xsi:type="dcterms:W3CDTF">2020-09-18T15:14:50Z</dcterms:modified>
  <cp:revision>269</cp:revision>
  <dc:subject/>
  <dc:title>ФАКТОРИ КОЈИ УТИЧУ НА ЗДРАВЉЕ</dc:title>
</cp:coreProperties>
</file>